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28D-B4C9-424B-887A-88450730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FEA-411E-43B6-9273-75DFCA6B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EC24-8BE0-4F6E-B6E7-5310187A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9B0-AF9F-4A24-9090-0208A3E1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39E7-8AE5-448C-9823-CC96927F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36EB-14FB-4537-843D-55056C13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510-95A8-4242-9BAB-46776904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6AD8-0D96-4AA9-8CF9-01FA46F7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84E-84D1-4FA9-8311-21EE7CE2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5A83-92BE-4A81-9140-D38215E2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CD2-C066-4ABC-A8A4-81B2ECDC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D32-EADA-4CD7-8A45-56AC52D2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D32E-4308-4EBB-ADED-1A5CEC7AE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50state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50states.com/alabama.htm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50states.com/" TargetMode="External"/><Relationship Id="rId4" Type="http://schemas.openxmlformats.org/officeDocument/2006/relationships/hyperlink" Target="http://www.enchantedlearning.com/usa/statesbw/alabama.shtml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enchantedlearning.com/usa/states/alabama/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61400" y="4761000"/>
            <a:ext cx="182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ola Delgad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17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762120"/>
            <a:ext cx="60958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Alabama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4495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43000" y="51814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bama Song: Fifty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abama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/25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50states.com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5345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: Montgom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: 4,779,7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ed the Union: Dec.14 ,1819 #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to: “Audemus jura nostra defendere” “We Dare Defend our Righ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name: Yellowhammer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er: Camel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: Yellowha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g: Alab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ing behind name: “Tribal Town” An Indian tribal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bama workers built the first rocket to put humans on the m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ms: star blue quar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ral: Hemat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k: Mar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Insect: Monarch butter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449568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22840" y="3809880"/>
            <a:ext cx="291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51440" y="4151160"/>
            <a:ext cx="268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Alabama State Flag">
            <a:hlinkClick r:id="rId1"/>
          </p:cNvPr>
          <p:cNvPicPr/>
          <p:nvPr/>
        </p:nvPicPr>
        <p:blipFill>
          <a:blip r:embed="rId2"/>
          <a:srcRect l="0" t="-3115" r="-687" b="0"/>
          <a:stretch/>
        </p:blipFill>
        <p:spPr>
          <a:xfrm>
            <a:off x="457200" y="213372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4800600"/>
            <a:ext cx="30477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labama State Flag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ctober 18 , 20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50stat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2193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Alabama’s state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10080" y="609480"/>
            <a:ext cx="3029040" cy="4191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91320" y="4876920"/>
            <a:ext cx="26668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aba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ctober 18 ,2011 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enchantedlearning.com/usa/states/alabam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2286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Alabama's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3657600" cy="3276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4703760"/>
            <a:ext cx="3886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welry Mall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aba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5/11, http://www.jewelrymall.com/stones/quartz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85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a Quar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Butterfly anatomy"/>
          <p:cNvPicPr/>
          <p:nvPr/>
        </p:nvPicPr>
        <p:blipFill>
          <a:blip r:embed="rId3"/>
          <a:stretch/>
        </p:blipFill>
        <p:spPr>
          <a:xfrm>
            <a:off x="4114800" y="838080"/>
            <a:ext cx="4724280" cy="348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952880" y="47242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arch Butterfly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Danaus Plexipp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10/25/11, http://www.EnchantedLearning.com/usa/states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a Monarch Butterfly the state ins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457200" y="685800"/>
            <a:ext cx="8001000" cy="5202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52480" y="5943600"/>
            <a:ext cx="685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 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aba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0/25/11 , http://www.postcardsfrom.com/t1/000508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2286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State Capitol , Montgomery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20Z</dcterms:created>
  <dc:creator>install</dc:creator>
  <dc:description/>
  <dc:language>en-US</dc:language>
  <cp:lastModifiedBy>install</cp:lastModifiedBy>
  <dcterms:modified xsi:type="dcterms:W3CDTF">2011-10-27T13:42:42Z</dcterms:modified>
  <cp:revision>9</cp:revision>
  <dc:subject/>
  <dc:title>Slide 1</dc:title>
</cp:coreProperties>
</file>